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12.wmf" ContentType="image/x-wmf"/>
  <Override PartName="/ppt/media/image19.jpeg" ContentType="image/jpeg"/>
  <Override PartName="/ppt/media/image18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ABD3-44F9-4C30-BC7B-8E4648E6C5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896F-9EC0-455B-B9C9-5F41E2F75D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EBB9-0DC8-4A19-8026-6D61209D0D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A7CC-264B-4047-A713-B60D1D323B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F672-66B5-489B-B264-EA7BCCD3C3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060D-72B8-438F-8C66-83EE9EB1F8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FBF8-C1BA-4A93-ADCA-AC7D13C695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8CCC-3662-4F27-8D12-82A227FE22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F148-6783-4BA9-A9A6-DF8D3BEA8B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2E26-3A2A-4A58-9522-A0F28CF780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92D6-57AA-4612-994D-CD8EF0196F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BC80-41EC-4A75-958B-85097A1156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66C2-96B3-4822-AFFA-55894D1C35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24EA-83D2-453C-9437-BF710D31FC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69B3-0A64-4A36-97B1-4A12649BC1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840D-810F-4C66-B520-607E0BC96E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ADA-55EA-44CD-BB91-72300C6F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974-CDDA-4BF3-9BA0-8D141C8C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419-B375-446C-96A3-EBC4B353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665-B265-48AE-900C-7DFCF6D1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9DAC-CCD8-4792-ACA4-D6B51CAD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1CF2-2388-4803-B055-EDAC4473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7821-0E31-449C-83A8-D09E9F6A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0537-7315-459F-8507-27988C30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1690-77E5-4CC0-95E7-50E24A77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DCF9-C511-46A3-8690-10054634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86D2-4706-4793-A17D-41ACC2AC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2AE-1740-423C-9984-51954A09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0FBC-C753-4EE1-B8EA-708610D4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55E2-6BD5-4F3C-A99E-B1603A29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ADF6-BBE1-432E-883F-F0B8FF90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E88D-9300-415E-8156-E9F75C51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3D9F-DD94-4977-8370-777213C0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7A2BE-84ED-4D48-9C74-D4966FD4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99F15-7031-4A8A-BC0A-6A5F3C7D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CE59-04F4-4FBB-B905-27C09C94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3B6CF-799F-43FA-B3E4-0D07EB8D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A71AD-A87A-4878-9438-441A856F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D34-1202-4FFF-AEA7-CDE83917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EC90F-A8A7-43F4-90F8-451E00D6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08B3-DC41-4FA5-A148-FE218EAE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559C9-0FDB-4C41-B4CE-A177C5AE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4189E-605A-41C8-8CA4-91200C15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62F1A-839D-40A6-8ECC-384364F5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D889A-9532-4C9E-94ED-C95DE333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561EE-501B-47B8-B798-BEA854C9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F1668-4DF1-416A-814F-C0E9343F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BE6F3-2A78-4E66-922E-8D52CD42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3B0ED-E9E8-4215-B02A-C33ECD6F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92AD-1074-4B20-86B8-5978A54D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506CA-7A07-44FC-9AB7-CF8F208A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ADBDF-0FF6-4201-932F-FA95872A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26801-3D49-4CE1-9682-D37A169D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7725E-516F-4EE2-A331-27151E8A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7C970-38A1-45DD-ACE9-5F072F0E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6EFB2-071B-470B-BDF8-B049C150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AC107-E95A-42FA-A527-57E61BE9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0F1CC-4680-4B52-B5BD-94B0DDA8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0F057-6FDA-43D1-92B6-0B743091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E2D8B-7B9D-40D0-BCE9-D3274451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F74-6BC3-4023-8BAC-DE39822F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1E29C-A1A3-4292-BC2C-BDC8CC5A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BE1D8-72B9-434A-AE0A-CD0BCED5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46448-26F9-428E-8258-3EFB2088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58BC8-64C0-49A4-B23B-D799570B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4CDA2-F4A0-43A0-BC79-5F0A28B5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BB2BC-F6E6-4920-85E6-0F74329D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1D35E-76BC-4C99-964D-C8CF9AA0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A1B32-B46C-4D3B-A173-84A1ED29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E31B2-C8F7-457C-8803-F70D3AFE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0B8DD-6D1A-42D5-BBF7-4A166661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C3A-AD99-44FE-9286-60653EBA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F762D-660D-48FA-8FAB-E461EA6B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CA39A-72F2-4FBA-B987-23454B08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59239-3527-4E16-A218-F61FEA0A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65DD2-8D64-4FAA-8C52-D9441685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7001B-FB4F-49BF-89C8-C33A7786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9BF51-FDA2-4D6D-B3AF-86407C74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F83D6-E053-413C-932E-294C726A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3426D-AAC6-4D2B-9F75-A31030EA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02FE4-8B9A-4CC9-938E-79887FD4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49214-F3AA-43D8-97A2-FD06E4DE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26A-A4F7-44C5-B0C0-77312CFC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E9222-E3BA-4D85-933F-924A5025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64B39-69D3-4933-8803-43352105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FFF52-BFBC-413D-9154-BF03C0CA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F46C6-A7A9-4011-810D-6D1A6D6B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940C0-CE33-4418-BD61-67C5666F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494DF-164F-4D8E-B497-622A45BA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95C21-85F9-427B-9DCD-A78AA85D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53262-48B0-4653-BBB5-CB575D4B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98A6D-F85F-4D3D-B4E3-6AFCD8F6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C4675-082B-4D0B-AC75-6C07FCF9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ADE-CF50-4EFB-9BC6-BCECDBBC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FBA25-E834-494E-A890-4A4CAB17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C078E-91E2-45DE-A340-16649540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36807-EFD0-42F1-8216-36EB24FB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8E19C-AF67-42F4-A84E-CF17C199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DAB4C-2AB4-4186-9749-DD5691F0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39FC9-FBC2-4B17-B69D-DF0846C4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DDD15-E4B4-496C-8565-C9ECEDE8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CCA05-FD9F-458A-957A-CA6D4EE2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1C334-CCA3-41FA-A751-ED3CBAF2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EB05F-308F-4DCC-B94B-30F9FC79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6566-7B6B-4A2A-8D50-A96AE97B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0E39C-7F01-485B-8B03-82B9815A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8DDAB-DAEA-4D2E-9A55-43A4BC11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EDEDA-2D86-42BE-B737-39EFF528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283C4-519C-42EE-874C-83FA11C2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C34A0-1D25-454B-90DA-CA4320B9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F3A02-0827-4F8C-BCEA-F1ACA76A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47A0E-1810-4DE3-B977-33D407BF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0501-4087-4B15-872F-EC69F1AD509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CD90-1033-4306-8DBE-8649F9E39DC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B9D6-2DBF-49A4-B83A-1B20583D7F2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0521-B86C-4E8E-94F6-A2D8A076B31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6F33-FB26-477B-B1CF-9B76417D7EF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76A5-F183-408C-B5F0-78A03EB4375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2B98-6FBF-40F7-8126-BFCAFC9D571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A8B4-1F74-4A53-A627-5AC4CD6BD62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ершинин Никита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Родился 20</a:t>
            </a: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октября 1998г. 3 а кла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лександр Кержа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вард сборной России по футболу Александр Кержаков. Он является одним из самых молодых и перспективных нападающих наше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7" descr="5de0018i"/>
          <p:cNvPicPr/>
          <p:nvPr/>
        </p:nvPicPr>
        <p:blipFill>
          <a:blip r:embed="rId1"/>
          <a:stretch/>
        </p:blipFill>
        <p:spPr>
          <a:xfrm>
            <a:off x="4703760" y="167652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ергей Овчинни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тарь сборной России по футболу Сергей Овчинников. На протяжении нескольких лет он с успехом защищает ворота главной команды страны, а также московского «Локомотива» в составе которого в 2002 году Сергей стал чемпионом Росс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7" descr="5de0017i"/>
          <p:cNvPicPr/>
          <p:nvPr/>
        </p:nvPicPr>
        <p:blipFill>
          <a:blip r:embed="rId1"/>
          <a:stretch/>
        </p:blipFill>
        <p:spPr>
          <a:xfrm>
            <a:off x="4648320" y="2014560"/>
            <a:ext cx="3504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ля справ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Россию футбол пришел в конце 19 ве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знанными лидерами мирового футбола в Европе являются сборные команды Франции, Германии, Англии, Италии, Испании, в Южной Америке — бразильцы, аргентинц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рупнейшими футбольными турнирами являются чемпионат мира и чемпионат Европы, которые проводятся раз в четыре год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утбол — олимпийский вид, но победа на Олимпиаде не считается высшим достижением в футболе (в отличие от других видов); главный турнир — чемпионат ми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Лучшие тренеры сборных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Гус Хиддинк занял второе место в списке лучших тренеров сборны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ждународная федерация футбольной истории и статистики (IFFHS) подвела итоги опроса своих экспертов, которые выбирали лучшего среди главных тренеров национальных сборных 2008 год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 первом месте оказался 70-летний Луис Арагонес, приведший команду Испании к званию чемпиона Европы. Вторую строчку занял главный тренер российской команды Гус Хиддинк, а замкнул тройку наставник турецкой сборной Фатих Терим, которая, как и российская, стала бронзовым призером ЕВРО-2008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есёлые картин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7" name="Picture 13" descr="j0301476"/>
          <p:cNvPicPr/>
          <p:nvPr/>
        </p:nvPicPr>
        <p:blipFill>
          <a:blip r:embed="rId1"/>
          <a:stretch/>
        </p:blipFill>
        <p:spPr>
          <a:xfrm>
            <a:off x="1577880" y="1919160"/>
            <a:ext cx="1797120" cy="154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j0323802"/>
          <p:cNvPicPr/>
          <p:nvPr/>
        </p:nvPicPr>
        <p:blipFill>
          <a:blip r:embed="rId2"/>
          <a:stretch/>
        </p:blipFill>
        <p:spPr>
          <a:xfrm>
            <a:off x="4952880" y="182880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j0396714"/>
          <p:cNvPicPr/>
          <p:nvPr/>
        </p:nvPicPr>
        <p:blipFill>
          <a:blip r:embed="rId3"/>
          <a:stretch/>
        </p:blipFill>
        <p:spPr>
          <a:xfrm>
            <a:off x="1562040" y="4243320"/>
            <a:ext cx="1828800" cy="1577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soccer_ref_red_card_md_wht"/>
          <p:cNvPicPr/>
          <p:nvPr/>
        </p:nvPicPr>
        <p:blipFill>
          <a:blip r:embed="rId4"/>
          <a:stretch/>
        </p:blipFill>
        <p:spPr>
          <a:xfrm>
            <a:off x="5486400" y="4460760"/>
            <a:ext cx="16383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р Мяч, Мяч Милан, Мяч Реал, Обычный Мяч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2" name="Picture 9" descr="мир мяч"/>
          <p:cNvPicPr/>
          <p:nvPr/>
        </p:nvPicPr>
        <p:blipFill>
          <a:blip r:embed="rId1"/>
          <a:stretch/>
        </p:blipFill>
        <p:spPr>
          <a:xfrm>
            <a:off x="1295280" y="1905120"/>
            <a:ext cx="1828800" cy="1447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мяч милан"/>
          <p:cNvPicPr/>
          <p:nvPr/>
        </p:nvPicPr>
        <p:blipFill>
          <a:blip r:embed="rId2"/>
          <a:stretch/>
        </p:blipFill>
        <p:spPr>
          <a:xfrm>
            <a:off x="6024600" y="20494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мЯч реал"/>
          <p:cNvPicPr/>
          <p:nvPr/>
        </p:nvPicPr>
        <p:blipFill>
          <a:blip r:embed="rId3"/>
          <a:stretch/>
        </p:blipFill>
        <p:spPr>
          <a:xfrm>
            <a:off x="1857240" y="441324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4" descr="j0404938"/>
          <p:cNvPicPr/>
          <p:nvPr/>
        </p:nvPicPr>
        <p:blipFill>
          <a:blip r:embed="rId4"/>
          <a:stretch/>
        </p:blipFill>
        <p:spPr>
          <a:xfrm>
            <a:off x="5135400" y="3938760"/>
            <a:ext cx="3063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иографи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ршинин Никита Андрееви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ник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класса школы № 1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рождения: 20 октября 1998г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лекаюсь футболом и плавань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утбо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евятикратный чемпион России по футболу — московский «Спартак». Сезон 1998/1999 год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footbol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ональд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учший нападающий современной бразильской сборной — Рональдо. В финальном матче чемпионата мира 2002 года Бразилия — Германия он забил оба мяча своей сборной и принес Бразилии пятый титул чемпионов ми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7" descr="RONALi"/>
          <p:cNvPicPr/>
          <p:nvPr/>
        </p:nvPicPr>
        <p:blipFill>
          <a:blip r:embed="rId1"/>
          <a:stretch/>
        </p:blipFill>
        <p:spPr>
          <a:xfrm>
            <a:off x="4876920" y="1905120"/>
            <a:ext cx="26445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то интересно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тбол — бесспорно, самая популярная и самая массовая спортивная игра. В нее играют на всех континентах от школьника до убеленных сединой мужей. Футбол — это скорость, сила, ловкость, быстрота реак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дина футбола — Англия. И само слово «футбол» английское, оно произошло от foot — нога и ball — мяч. Однако еще две тысячи лет назад, задолго до того, как кожаный мяч появился в Англии, в него играли юноши в Древнем Китае. Игра с мячом была широко распространена и в Древней Греции. У греков игру в мяч заимствовали римляне. Она стала любимым развлечением римских воинов, которые играли мячом из толстой воловьей кожи, набитой соломой. Благодаря Риму в 14 веке эта игра стала известна на Британских островах. В средневековый английский футбол играли азартно, но очень грубо. Сама игра превращалась часто в дикую свалку на улицах. Власти вели упорную войну с футболом; были изданы даже королевские указы о запрещении игры. Но популярность футбола была настолько велика, что никакие указы не могли остановить ее триумфальное шествие. Именно тогда футбол получил свое нынешнее название. В 1863 году была основана первая в мире футбольная ассоциация и разработаны официальные правила игры, в 1904 году возникла Международная федерация футбольных ассоциа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ел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 из самых знаменитых футболистов в мире бразильский нападающий Пеле очень точно подметил: «Футбол — это трудная игра, ведь в нее играют ногами, а думать надо голов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динственный футболист в истории, который становился трехкратным чемпионом мира в качестве игрока (1958, 1962, 197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7" descr="pele1"/>
          <p:cNvPicPr/>
          <p:nvPr/>
        </p:nvPicPr>
        <p:blipFill>
          <a:blip r:embed="rId1"/>
          <a:stretch/>
        </p:blipFill>
        <p:spPr>
          <a:xfrm>
            <a:off x="5105520" y="1752480"/>
            <a:ext cx="2501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ев Яшин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олотой мяч» — высшая награда для европейских футболистов. Лев Яшин стал его обладателем в 1963 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7" descr="yash1"/>
          <p:cNvPicPr/>
          <p:nvPr/>
        </p:nvPicPr>
        <p:blipFill>
          <a:blip r:embed="rId1"/>
          <a:stretch/>
        </p:blipFill>
        <p:spPr>
          <a:xfrm>
            <a:off x="5110200" y="1600200"/>
            <a:ext cx="3114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шель Платин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ранцуз Мишель Платини несколько раз признавался лучшим футболистом Европы. В 1984 году в составе сборной Франции он стал чемпионом Европы. Наибольшую известность получил, играя за итальянский клуб «Ювентус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7" descr="platini1"/>
          <p:cNvPicPr/>
          <p:nvPr/>
        </p:nvPicPr>
        <p:blipFill>
          <a:blip r:embed="rId1"/>
          <a:stretch/>
        </p:blipFill>
        <p:spPr>
          <a:xfrm>
            <a:off x="5154480" y="1600200"/>
            <a:ext cx="302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иего Марадо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ающийся аргентинский футболист Марадона —  один из лучших нападающих в истории мирово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7" descr="marad"/>
          <p:cNvPicPr/>
          <p:nvPr/>
        </p:nvPicPr>
        <p:blipFill>
          <a:blip r:embed="rId1"/>
          <a:stretch/>
        </p:blipFill>
        <p:spPr>
          <a:xfrm>
            <a:off x="5148360" y="1600200"/>
            <a:ext cx="303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13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